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C05E-94AF-499B-8E18-953FB2B9867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2B7A-8738-4418-A230-6FEF7B054DE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30" idx="1"/>
            <a:endCxn id="129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8" idx="1"/>
            <a:endCxn id="137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1"/>
            <a:endCxn id="142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1"/>
            <a:endCxn id="149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分割した定義の読み込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5" idx="1"/>
            <a:endCxn id="97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6" idx="1"/>
            <a:endCxn id="115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7-15T10:28:29Z</dcterms:modified>
  <cp:revision>117</cp:revision>
  <dc:subject/>
  <dc:title>スライド 1</dc:title>
</cp:coreProperties>
</file>